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DB7B-F7BC-48A5-A25B-06B7DB8D7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202C-7418-4C71-847B-19905943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5839-59BF-4F07-950A-C8AFF51A2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4804-55E1-4352-85B5-D35A1F050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36DB-AC19-4913-83C6-7CDF15BE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3EBD-58D5-4211-81A8-D91FA2F0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CA3D-E54D-438B-9144-D401045A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4342-D084-4D21-BE21-77B99D0F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BBEA-7925-4ED9-9A33-5DFBDB3E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E610-3BBC-4BAF-A5E0-3949966C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FFE8-2D5B-4236-A421-59AC4D3F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D4D0-41FB-4CB6-9B50-1BDFA1C8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FD7B-9A5D-4644-BE15-B694B033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D4F5-2542-49E8-BA8B-F4AB87A6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5CA4-0F32-4354-BBD5-64091389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B272-DD13-4168-B112-32522214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8F94-FB15-4D86-836C-6CCD3BCE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D01A-FAE9-40A5-A71A-F65DA8F4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868B-81D0-44D1-9F5B-2A124666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24E0-4138-414B-9C8C-09961C9C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16A1-033C-45C8-8A20-4694C036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8ABE-FB28-49C8-9876-42B83567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84C4-9543-459E-866C-A9573F7D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AB1C-B01B-49F5-B6F6-CF430EFC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2"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3" marL="335880" indent="-3358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4" marL="335880" indent="-335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5" marL="335880" indent="-335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6" marL="335880" indent="-335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9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9F87-E5AB-40EF-BB25-93934F112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7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8">
            <a:hlinkClick r:id="" action="ppaction://hlinkshowjump?jump=previousslide"/>
          </p:cNvPr>
          <p:cNvSpPr/>
          <p:nvPr/>
        </p:nvSpPr>
        <p:spPr>
          <a:xfrm>
            <a:off x="12193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9">
            <a:hlinkClick r:id="" action="ppaction://hlinkshowjump?jump=firstslide"/>
          </p:cNvPr>
          <p:cNvSpPr/>
          <p:nvPr/>
        </p:nvSpPr>
        <p:spPr>
          <a:xfrm>
            <a:off x="7621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5029200" y="609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Impact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7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2"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3" marL="335880" indent="-3358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4" marL="335880" indent="-335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5" marL="335880" indent="-335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6" marL="335880" indent="-335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057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40384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3B5B-3CA4-4269-8DA9-C704ABEB6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981080" y="8377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Chapter 5</a:t>
            </a:r>
            <a:endParaRPr b="1" lang="en-US" sz="8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Futura Md BT"/>
              </a:rPr>
              <a:t>Operating Systems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11426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Network Operating System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Network operating systems are designed to allow many users to share files and resources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Types of Network O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Network operating systems include: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X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to work with many kinds of compu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ersion of UNIX distributed for fr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 OS X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networks by Ap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NT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’s network 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ach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erver software distributed for fr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Futura Md BT"/>
              </a:rPr>
              <a:t>The Operating System</a:t>
            </a:r>
            <a:endParaRPr b="0" lang="en-US" sz="44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When working with multimedia, the operating system is perhaps the most important, the most complex, and the least visible software that your computer uses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The Four Layers of a Computer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62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Your computer is a system of four interdependent layers: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f05_01 copy"/>
          <p:cNvPicPr/>
          <p:nvPr/>
        </p:nvPicPr>
        <p:blipFill>
          <a:blip r:embed="rId6"/>
          <a:stretch/>
        </p:blipFill>
        <p:spPr>
          <a:xfrm>
            <a:off x="4724280" y="2400480"/>
            <a:ext cx="3733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hat do the four layers do?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rdw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tivates the BI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basic input/output system) starts the operating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ads drivers, networking services, and application software into the computer’s 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ows you to create your multimedia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What are programming languages?</a:t>
            </a:r>
            <a:endParaRPr b="0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62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rogramming languages provide instructions to operating systems.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42040" y="1981080"/>
          <a:ext cx="3031920" cy="403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42040" y="1981080"/>
                    <a:ext cx="303192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Types of Programming Languages</a:t>
            </a:r>
            <a:endParaRPr b="0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 languag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only language a computer’s CPU can re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embly languag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programming language that the CPU can quickly encode to machine langu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-level programming languag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ing languages that computers can interpret quickly but are not like human languag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More Programming Language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High-level programming languages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programming languages that resemble human languag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compilers to convert high-level languages to machine langu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: C++, Java, Visual Basic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Graphical User Interface (GUI)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Microsoft Windows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d in 198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ost used PC operating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s a huge number of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pple Mac OS 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ived from the first PCs to use GU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by many designers and multimedia produc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 are often not compatible with 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PDA Operating System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e most popular PDA operating systems are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lm O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OS for iDev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13:53:45Z</dcterms:created>
  <dc:creator>Danielle Perkins</dc:creator>
  <dc:description/>
  <dc:language>en-US</dc:language>
  <cp:lastModifiedBy>Sandra Hines</cp:lastModifiedBy>
  <dcterms:modified xsi:type="dcterms:W3CDTF">2012-06-27T20:39:08Z</dcterms:modified>
  <cp:revision>20</cp:revision>
  <dc:subject/>
  <dc:title>Chapter 5 Operating Systems</dc:title>
</cp:coreProperties>
</file>